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652-E6AC-4E0E-9A2E-1F8D0B0B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27B-0C4B-46C0-A105-0FC5FF33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201-2B17-48E4-A754-B99CC5B3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29F-9FE5-46AF-B763-4812F84E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957-8B36-40CC-BC7E-6EBEDE1A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2A9-AE93-4B85-9833-7D1A7DA4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1D1-35FE-4F74-80A3-15530426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6A1-43ED-45AC-BB18-9034629D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84D-CC09-4084-85DE-29D11746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011-4793-420E-9A3C-9569808E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155-7F67-4CDB-A2D0-886CE5F5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5BE-D8FB-4B30-A41D-0BE453A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226A-3FF1-4A71-A6E8-BC9AE3DF3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ization &amp; Glob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the trend of movement to c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urban growth more common in MDC’s than LDC’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projections predict major urban growth in LDC’s from the year 2000 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you think there is so much variation in describing the terms urban and c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2 factors combine to explain rapid urbaniz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ization and Glob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cities seems so attractive? (Pull factors of ci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main push factors of rural migration to urban are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could be “blamed” for rapid urbaniz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central issues/problems with rapid urban grow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ization and Glob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main issues that impact the US because of urbanization and what do you think of the potential solutions giv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28:23Z</dcterms:created>
  <dc:creator>callen</dc:creator>
  <dc:description/>
  <dc:language>en-US</dc:language>
  <cp:lastModifiedBy>callen</cp:lastModifiedBy>
  <dcterms:modified xsi:type="dcterms:W3CDTF">2011-04-20T18:05:13Z</dcterms:modified>
  <cp:revision>4</cp:revision>
  <dc:subject/>
  <dc:title>Slide 1</dc:title>
</cp:coreProperties>
</file>